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2491-8571-45C1-8140-8F999E0F0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CDD1-79CB-4E13-8DBA-B619B891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1354-ABD3-434F-AF28-CF2010C17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B40A-D543-483D-86A8-CA1D5C1BD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69275-3CE3-4870-BCDC-C640104F8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789D7-C0F3-401A-98E0-46DFFCE3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D05C-0C1A-4D05-9B2C-B3C8B08F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7C4D-9BA7-482E-AAE4-8F5DEFEB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F5BA-A498-49F9-91A3-24531242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13F68-799A-43C5-92CA-34CC73AA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DC8D-263D-42ED-B566-8DFF2874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8C7F-0F41-4183-A4A1-77DC9F13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81DD-4C17-4307-84B4-1F454E1C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8226A-F122-4452-8339-1487B09E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E9E0-8966-4310-AE9B-220E069A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2A20-B717-4564-8B8A-CBB0322D5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C5BC-962A-4A53-8EC3-51E109D4F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842B-5A32-45B0-9D25-0EB7B67E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5C89-8BE0-4536-B49C-8D218792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7CC0-11D0-4C60-BAF5-2B39DC2B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9571-47C2-4C0E-9FFB-0B25A97C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9205-F707-4E99-A7AE-CA779031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FEB2-9A23-488B-A43F-41ED6911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ACB7-0EBC-4C2A-B4A0-508F3E92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1DED-2BE8-44F1-86F6-D290D11905D3}" type="slidenum">
              <a:rPr b="0" lang="el-G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DCFE-E36D-4426-B2D8-43A23AE33099}" type="slidenum">
              <a:rPr b="0" lang="el-G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The Apples of our Is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46240" y="4095360"/>
            <a:ext cx="6045120" cy="15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e Marketing Bo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Apple Marketing Boa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539640" y="1916280"/>
            <a:ext cx="7919280" cy="4108680"/>
            <a:chOff x="539640" y="1916280"/>
            <a:chExt cx="7919280" cy="4108680"/>
          </a:xfrm>
        </p:grpSpPr>
        <p:cxnSp>
          <p:nvCxnSpPr>
            <p:cNvPr id="102" name="_s28685"/>
            <p:cNvCxnSpPr>
              <a:stCxn id="103" idx="0"/>
              <a:endCxn id="104" idx="2"/>
            </p:cNvCxnSpPr>
            <p:nvPr/>
          </p:nvCxnSpPr>
          <p:spPr>
            <a:xfrm flipV="1" rot="16200000">
              <a:off x="5473800" y="2584080"/>
              <a:ext cx="822240" cy="2772000"/>
            </a:xfrm>
            <a:prstGeom prst="bentConnector3">
              <a:avLst>
                <a:gd name="adj1" fmla="val 96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28684"/>
            <p:cNvCxnSpPr>
              <a:stCxn id="106" idx="0"/>
              <a:endCxn id="104" idx="2"/>
            </p:cNvCxnSpPr>
            <p:nvPr/>
          </p:nvCxnSpPr>
          <p:spPr>
            <a:xfrm flipV="1">
              <a:off x="4499280" y="3559320"/>
              <a:ext cx="3600" cy="822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28683"/>
            <p:cNvCxnSpPr>
              <a:stCxn id="108" idx="0"/>
              <a:endCxn id="104" idx="2"/>
            </p:cNvCxnSpPr>
            <p:nvPr/>
          </p:nvCxnSpPr>
          <p:spPr>
            <a:xfrm flipH="1" flipV="1" rot="5400000">
              <a:off x="2701440" y="2584440"/>
              <a:ext cx="822240" cy="2772000"/>
            </a:xfrm>
            <a:prstGeom prst="bentConnector3">
              <a:avLst>
                <a:gd name="adj1" fmla="val 96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4" name="_s28679"/>
            <p:cNvSpPr/>
            <p:nvPr/>
          </p:nvSpPr>
          <p:spPr>
            <a:xfrm>
              <a:off x="3311280" y="1916280"/>
              <a:ext cx="2375640" cy="164340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Jen Grah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Chief 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28680"/>
            <p:cNvSpPr/>
            <p:nvPr/>
          </p:nvSpPr>
          <p:spPr>
            <a:xfrm>
              <a:off x="539640" y="4381560"/>
              <a:ext cx="2375640" cy="164340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Hannah Sto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Marketing Manag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28681"/>
            <p:cNvSpPr/>
            <p:nvPr/>
          </p:nvSpPr>
          <p:spPr>
            <a:xfrm>
              <a:off x="3311280" y="4381560"/>
              <a:ext cx="2375640" cy="164340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Ella Willia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Quality Manag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28682"/>
            <p:cNvSpPr/>
            <p:nvPr/>
          </p:nvSpPr>
          <p:spPr>
            <a:xfrm>
              <a:off x="6083280" y="4381560"/>
              <a:ext cx="2375640" cy="164340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Jown Brow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Finance Manag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pple Varietie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71760" y="2142720"/>
            <a:ext cx="71388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llens Everla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llington Pipp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Beauty of K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Blenheim Or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laygate Pear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'arcy Sp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axton's Fortu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Green App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Known as Granny Smi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Originated in Austral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6" descr="Green and grey apple image"/>
          <p:cNvPicPr/>
          <p:nvPr/>
        </p:nvPicPr>
        <p:blipFill>
          <a:blip r:embed="rId1"/>
          <a:stretch/>
        </p:blipFill>
        <p:spPr>
          <a:xfrm>
            <a:off x="5724360" y="2492280"/>
            <a:ext cx="19130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ally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n apple a day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keeps the doctor awa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Oval 11"/>
          <p:cNvSpPr/>
          <p:nvPr/>
        </p:nvSpPr>
        <p:spPr>
          <a:xfrm>
            <a:off x="5580000" y="5229360"/>
            <a:ext cx="1932120" cy="1079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ing Green App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28760" y="2142720"/>
            <a:ext cx="814680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Oval 12"/>
          <p:cNvSpPr/>
          <p:nvPr/>
        </p:nvSpPr>
        <p:spPr>
          <a:xfrm>
            <a:off x="7104240" y="5373720"/>
            <a:ext cx="1931760" cy="10796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9"/>
          <p:cNvSpPr/>
          <p:nvPr/>
        </p:nvSpPr>
        <p:spPr>
          <a:xfrm>
            <a:off x="4284720" y="5373720"/>
            <a:ext cx="1931760" cy="10796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en Buying App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reee from blemis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broken sk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ris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5460840" y="1916280"/>
            <a:ext cx="3024360" cy="3889080"/>
          </a:xfrm>
          <a:custGeom>
            <a:avLst/>
            <a:gdLst>
              <a:gd name="textAreaLeft" fmla="*/ 405000 w 3024360"/>
              <a:gd name="textAreaRight" fmla="*/ 2619360 w 3024360"/>
              <a:gd name="textAreaTop" fmla="*/ 680400 h 3889080"/>
              <a:gd name="textAreaBottom" fmla="*/ 2819520 h 38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Check bef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bu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oking with Apple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ple Nutr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pples reduce cholesterol and aids di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pples are virtually fat f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pples are rich in Potass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pples have 8-14% natural frut sug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21:35:22Z</dcterms:created>
  <dc:creator>European Computer Driving Licence Foundation Ltd.</dc:creator>
  <dc:description/>
  <dc:language>en-US</dc:language>
  <cp:lastModifiedBy>Gregoris Gregoriou</cp:lastModifiedBy>
  <dcterms:modified xsi:type="dcterms:W3CDTF">2011-05-09T17:38:08Z</dcterms:modified>
  <cp:revision>56</cp:revision>
  <dc:subject/>
  <dc:title>THE APPLES OF OUR ISLES</dc:title>
</cp:coreProperties>
</file>