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C1D2-7610-41EE-A145-40A2C61D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BEE2-A06F-42D6-B004-DA2ACA5C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0C80-3D09-4A1E-90C9-686C0C0D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D10E-6B58-41AD-A842-1557F3D9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980F-4246-4A26-AB59-F602B75E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3694-B527-4F88-9B76-9DBEF18B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A35B-E1C5-4F2C-9C08-B0E39590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1F62-754D-4524-BD69-553C35A0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A65C-927C-43B6-9F50-DBEDC9B3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6F66-E2EB-4673-A2FC-464AFE18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4D52-B052-4E61-8140-2C316427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057-7124-4874-82C8-DE4A9B76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6EDC-9E22-45B8-8BDB-4BE14819A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The Apples of our Is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pple Marketing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1280" y="1773360"/>
            <a:ext cx="7992360" cy="3996000"/>
            <a:chOff x="611280" y="1773360"/>
            <a:chExt cx="7992360" cy="3996000"/>
          </a:xfrm>
        </p:grpSpPr>
        <p:cxnSp>
          <p:nvCxnSpPr>
            <p:cNvPr id="44" name="_s24588"/>
            <p:cNvCxnSpPr>
              <a:stCxn id="45" idx="0"/>
              <a:endCxn id="46" idx="2"/>
            </p:cNvCxnSpPr>
            <p:nvPr/>
          </p:nvCxnSpPr>
          <p:spPr>
            <a:xfrm flipV="1" rot="16200000">
              <a:off x="5606280" y="2372040"/>
              <a:ext cx="799920" cy="2797920"/>
            </a:xfrm>
            <a:prstGeom prst="bentConnector3">
              <a:avLst>
                <a:gd name="adj1" fmla="val 20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24587"/>
            <p:cNvCxnSpPr>
              <a:stCxn id="48" idx="0"/>
              <a:endCxn id="46" idx="2"/>
            </p:cNvCxnSpPr>
            <p:nvPr/>
          </p:nvCxnSpPr>
          <p:spPr>
            <a:xfrm flipV="1">
              <a:off x="4607640" y="3371400"/>
              <a:ext cx="2880" cy="79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24586"/>
            <p:cNvCxnSpPr>
              <a:stCxn id="50" idx="0"/>
              <a:endCxn id="46" idx="2"/>
            </p:cNvCxnSpPr>
            <p:nvPr/>
          </p:nvCxnSpPr>
          <p:spPr>
            <a:xfrm flipH="1" flipV="1" rot="5400000">
              <a:off x="2808720" y="2372400"/>
              <a:ext cx="799920" cy="2797920"/>
            </a:xfrm>
            <a:prstGeom prst="bentConnector3">
              <a:avLst>
                <a:gd name="adj1" fmla="val 20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6" name="_s24582"/>
            <p:cNvSpPr/>
            <p:nvPr/>
          </p:nvSpPr>
          <p:spPr>
            <a:xfrm>
              <a:off x="3408480" y="1773360"/>
              <a:ext cx="2397600" cy="1598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300" spc="-1" strike="noStrike">
                  <a:solidFill>
                    <a:srgbClr val="000000"/>
                  </a:solidFill>
                  <a:latin typeface="Arial"/>
                </a:rPr>
                <a:t>Jen Graham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300" spc="-1" strike="noStrike">
                  <a:solidFill>
                    <a:srgbClr val="000000"/>
                  </a:solidFill>
                  <a:latin typeface="Arial"/>
                </a:rPr>
                <a:t>Chief Executiv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4583"/>
            <p:cNvSpPr/>
            <p:nvPr/>
          </p:nvSpPr>
          <p:spPr>
            <a:xfrm>
              <a:off x="611280" y="4170960"/>
              <a:ext cx="2397600" cy="1598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Hannah Ston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Marketing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4584"/>
            <p:cNvSpPr/>
            <p:nvPr/>
          </p:nvSpPr>
          <p:spPr>
            <a:xfrm>
              <a:off x="3408480" y="4170960"/>
              <a:ext cx="2397600" cy="1598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Ella William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Quality Manage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4585"/>
            <p:cNvSpPr/>
            <p:nvPr/>
          </p:nvSpPr>
          <p:spPr>
            <a:xfrm>
              <a:off x="6206040" y="4170960"/>
              <a:ext cx="2397600" cy="1598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John Brown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Finance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e Var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71760" y="2142720"/>
            <a:ext cx="71388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ens Everl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ington Pip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auty of K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enheim 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gate Pear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'arcy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xton's Fort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een Ap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Known as Granny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Originated in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Green and grey apple image"/>
          <p:cNvPicPr/>
          <p:nvPr/>
        </p:nvPicPr>
        <p:blipFill>
          <a:blip r:embed="rId1"/>
          <a:stretch/>
        </p:blipFill>
        <p:spPr>
          <a:xfrm>
            <a:off x="5724360" y="2492280"/>
            <a:ext cx="19130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pple a d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s the doctor a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Oval 11"/>
          <p:cNvSpPr/>
          <p:nvPr/>
        </p:nvSpPr>
        <p:spPr>
          <a:xfrm>
            <a:off x="5580000" y="5229360"/>
            <a:ext cx="1932120" cy="107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Green Ap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2142720"/>
            <a:ext cx="81468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2"/>
          <p:cNvSpPr/>
          <p:nvPr/>
        </p:nvSpPr>
        <p:spPr>
          <a:xfrm>
            <a:off x="7104240" y="5373720"/>
            <a:ext cx="1931760" cy="1079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9"/>
          <p:cNvSpPr/>
          <p:nvPr/>
        </p:nvSpPr>
        <p:spPr>
          <a:xfrm>
            <a:off x="4284720" y="5373720"/>
            <a:ext cx="1931760" cy="1079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Buying Ap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reee from blemi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nbroken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i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5460840" y="1916280"/>
            <a:ext cx="3024360" cy="3889080"/>
          </a:xfrm>
          <a:custGeom>
            <a:avLst/>
            <a:gdLst>
              <a:gd name="textAreaLeft" fmla="*/ 405000 w 3024360"/>
              <a:gd name="textAreaRight" fmla="*/ 2619360 w 3024360"/>
              <a:gd name="textAreaTop" fmla="*/ 680400 h 3889080"/>
              <a:gd name="textAreaBottom" fmla="*/ 2819520 h 38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Check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bu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ng with App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e 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reduce cholesterol and aids di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are virtually fat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are rich in Potas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have 8-14% natural frut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21:35:22Z</dcterms:created>
  <dc:creator>European Computer Driving Licence Foundation Ltd.</dc:creator>
  <dc:description/>
  <dc:language>en-US</dc:language>
  <cp:lastModifiedBy>Gregoris Gregoriou</cp:lastModifiedBy>
  <dcterms:modified xsi:type="dcterms:W3CDTF">2011-01-23T07:58:58Z</dcterms:modified>
  <cp:revision>52</cp:revision>
  <dc:subject/>
  <dc:title>THE APPLES OF OUR ISLES</dc:title>
</cp:coreProperties>
</file>