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AE7-B173-4DC5-9EE2-F9F556FF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E07-D2E6-4791-A2E2-6A924B64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8D0-F0A5-4007-BBAC-9AC1F8E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757-8996-4AC5-B434-1AAC1142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C4-2370-42A8-A46B-531C47A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FFF-9A6F-4D38-A1FE-526FD5B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576-2357-4AD2-B7AA-6E21E35F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22D-6DE9-4F4B-951A-DB5ABA5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1B3-C001-406C-8940-946225E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258-6757-43CE-A587-8B35B49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F98-52B9-4356-9A39-740ED53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02E-7462-4A63-AE30-5103416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C42-DE72-492E-BB5F-2EEA5E82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9640" y="1916280"/>
            <a:ext cx="7919280" cy="4108680"/>
            <a:chOff x="539640" y="1916280"/>
            <a:chExt cx="7919280" cy="4108680"/>
          </a:xfrm>
        </p:grpSpPr>
        <p:cxnSp>
          <p:nvCxnSpPr>
            <p:cNvPr id="45" name="_s3079"/>
            <p:cNvCxnSpPr>
              <a:stCxn id="46" idx="0"/>
              <a:endCxn id="47" idx="2"/>
            </p:cNvCxnSpPr>
            <p:nvPr/>
          </p:nvCxnSpPr>
          <p:spPr>
            <a:xfrm flipV="1" rot="16200000">
              <a:off x="5473800" y="258408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0"/>
            <p:cNvCxnSpPr>
              <a:stCxn id="49" idx="0"/>
              <a:endCxn id="47" idx="2"/>
            </p:cNvCxnSpPr>
            <p:nvPr/>
          </p:nvCxnSpPr>
          <p:spPr>
            <a:xfrm flipV="1">
              <a:off x="4499280" y="3559320"/>
              <a:ext cx="3600" cy="82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1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701440" y="258444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3082"/>
            <p:cNvSpPr/>
            <p:nvPr/>
          </p:nvSpPr>
          <p:spPr>
            <a:xfrm>
              <a:off x="3311280" y="191628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hief 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3"/>
            <p:cNvSpPr/>
            <p:nvPr/>
          </p:nvSpPr>
          <p:spPr>
            <a:xfrm>
              <a:off x="53964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Hannah 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arketing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4"/>
            <p:cNvSpPr/>
            <p:nvPr/>
          </p:nvSpPr>
          <p:spPr>
            <a:xfrm>
              <a:off x="3311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Ella Willi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Quality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85"/>
            <p:cNvSpPr/>
            <p:nvPr/>
          </p:nvSpPr>
          <p:spPr>
            <a:xfrm>
              <a:off x="6083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own Bro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Financ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71760" y="2142720"/>
            <a:ext cx="7138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1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146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Gregoris Gregoriou</cp:lastModifiedBy>
  <dcterms:modified xsi:type="dcterms:W3CDTF">2011-05-08T08:35:25Z</dcterms:modified>
  <cp:revision>54</cp:revision>
  <dc:subject/>
  <dc:title>THE APPLES OF OUR ISLES</dc:title>
</cp:coreProperties>
</file>