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924-127D-43EE-9DF6-5775BDC9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6C5-B7CF-443E-B065-4D7E183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0F2-9063-45D5-AB96-93FA2B49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639-545E-400E-B612-D6453702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D86A-B6E0-4C32-A4C9-3847718E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BC8-0314-4935-BFC7-2D23FEC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25C1-665F-4C39-B470-7311B8B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8BBB-5257-40D6-A11D-51F7D37E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561-7316-4B64-8AEE-9993B44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D10-8FB5-4BD2-9BED-51C4AD9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19B-1AF2-406C-A534-5F7CFDF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B5B-1038-433B-B3B9-B996804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EA22-16D9-44A4-A70A-B16C993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79B-524A-42B5-886B-B1877967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B812-5213-4B7C-9857-7BFB18E4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F74-8836-4820-AA35-B7E04EDD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28E-95F3-47D0-9943-875EF06E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AE8-9C91-4282-95E9-99393322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D1B-0211-4A9D-A8C9-2F44B55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051-19F0-42BC-ADA0-47498883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864-BD23-411C-899C-5CDDF15A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EE-39CE-4F1A-842E-717D71C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B68-7439-4669-86C4-384237E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949-6BB1-4A44-B248-DA34AD2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95AA-951F-40B3-9025-B27CEE4FBDB3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047-C320-4F1D-ACDA-8F4D3A4D32A3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4624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357880"/>
            <a:ext cx="1322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 Nutr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pple Marketing Bo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9640" y="1916280"/>
            <a:ext cx="7919280" cy="4108680"/>
            <a:chOff x="539640" y="1916280"/>
            <a:chExt cx="7919280" cy="4108680"/>
          </a:xfrm>
        </p:grpSpPr>
        <p:cxnSp>
          <p:nvCxnSpPr>
            <p:cNvPr id="103" name="_s2868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473800" y="258408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8684"/>
            <p:cNvCxnSpPr>
              <a:stCxn id="107" idx="0"/>
              <a:endCxn id="105" idx="2"/>
            </p:cNvCxnSpPr>
            <p:nvPr/>
          </p:nvCxnSpPr>
          <p:spPr>
            <a:xfrm flipV="1">
              <a:off x="4499280" y="3559320"/>
              <a:ext cx="3600" cy="82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8683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701440" y="258444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28679"/>
            <p:cNvSpPr/>
            <p:nvPr/>
          </p:nvSpPr>
          <p:spPr>
            <a:xfrm>
              <a:off x="3311280" y="191628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hief 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8680"/>
            <p:cNvSpPr/>
            <p:nvPr/>
          </p:nvSpPr>
          <p:spPr>
            <a:xfrm>
              <a:off x="53964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Hannah 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arketing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8681"/>
            <p:cNvSpPr/>
            <p:nvPr/>
          </p:nvSpPr>
          <p:spPr>
            <a:xfrm>
              <a:off x="3311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Ella Willi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Quality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8682"/>
            <p:cNvSpPr/>
            <p:nvPr/>
          </p:nvSpPr>
          <p:spPr>
            <a:xfrm>
              <a:off x="6083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own Bro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inanc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 Varie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reen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3124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l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Green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ms and jel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pies and crum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uce for m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Buying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 flipV="1">
            <a:off x="5460840" y="191520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040 h 3889080"/>
              <a:gd name="textAreaBottom" fmla="*/ 281916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le Production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ing with App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5-11T15:12:31Z</dcterms:modified>
  <cp:revision>67</cp:revision>
  <dc:subject/>
  <dc:title>THE APPLES OF OUR ISLES</dc:title>
</cp:coreProperties>
</file>