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804-199F-497F-BA8D-34156A0A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9C1-A402-48DB-AC17-99B50132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44A-5B36-4F7D-8C7C-41ADDAE2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35F-F322-4779-B9A9-426E16D0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CF3-9829-4BDE-AA8D-E73066E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919-E682-4961-A0F2-C1B3B90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170-6E12-47DD-9FA4-B4592FC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ED9-5F82-48C8-BB7C-8BBBA6B9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75C-85A5-467E-B877-05DC0BB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DB2-4575-40AC-992F-845C886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6D3-E74A-49C2-991A-5584FC42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224-EF48-4724-A4E1-9AD274F4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8EA9-0326-4F39-A70C-11DD1A20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9640" y="1916280"/>
            <a:ext cx="7919280" cy="4108680"/>
            <a:chOff x="539640" y="1916280"/>
            <a:chExt cx="7919280" cy="4108680"/>
          </a:xfrm>
        </p:grpSpPr>
        <p:cxnSp>
          <p:nvCxnSpPr>
            <p:cNvPr id="45" name="_s3079"/>
            <p:cNvCxnSpPr>
              <a:stCxn id="46" idx="0"/>
              <a:endCxn id="47" idx="2"/>
            </p:cNvCxnSpPr>
            <p:nvPr/>
          </p:nvCxnSpPr>
          <p:spPr>
            <a:xfrm flipV="1" rot="16200000">
              <a:off x="5473800" y="258408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0"/>
            <p:cNvCxnSpPr>
              <a:stCxn id="49" idx="0"/>
              <a:endCxn id="47" idx="2"/>
            </p:cNvCxnSpPr>
            <p:nvPr/>
          </p:nvCxnSpPr>
          <p:spPr>
            <a:xfrm flipV="1">
              <a:off x="4499280" y="3559320"/>
              <a:ext cx="3600" cy="82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1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701440" y="2584440"/>
              <a:ext cx="822240" cy="2772000"/>
            </a:xfrm>
            <a:prstGeom prst="bentConnector3">
              <a:avLst>
                <a:gd name="adj1" fmla="val 96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82"/>
            <p:cNvSpPr/>
            <p:nvPr/>
          </p:nvSpPr>
          <p:spPr>
            <a:xfrm>
              <a:off x="3311280" y="191628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hief 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3"/>
            <p:cNvSpPr/>
            <p:nvPr/>
          </p:nvSpPr>
          <p:spPr>
            <a:xfrm>
              <a:off x="53964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Hannah 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arketing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4"/>
            <p:cNvSpPr/>
            <p:nvPr/>
          </p:nvSpPr>
          <p:spPr>
            <a:xfrm>
              <a:off x="3311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Ella Willi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Quality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5"/>
            <p:cNvSpPr/>
            <p:nvPr/>
          </p:nvSpPr>
          <p:spPr>
            <a:xfrm>
              <a:off x="6083280" y="4381560"/>
              <a:ext cx="237564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Jown Bro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inanc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71760" y="2142720"/>
            <a:ext cx="7138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1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146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Gregoris Gregoriou</cp:lastModifiedBy>
  <dcterms:modified xsi:type="dcterms:W3CDTF">2011-05-08T08:35:47Z</dcterms:modified>
  <cp:revision>55</cp:revision>
  <dc:subject/>
  <dc:title>THE APPLES OF OUR ISLES</dc:title>
</cp:coreProperties>
</file>