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B665B-A24C-4D76-B8C9-A3B5712C7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C4D99-F7C2-4EA5-B1CF-7C80C1C99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9FDEA-A164-4AF6-8BF1-022E12513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9DA92-AD75-4E5C-AEFC-C74B76D3D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05ACF-943E-4C35-B1DC-BF3896626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3C977-9E59-4BC5-A194-E96FBBE07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897C0-1B27-4F6E-90D3-57CBB933C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80A10-AD66-4341-B806-2A9D71BED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282A0-0282-4D84-B962-920497DA1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9800E-4211-4C0B-AB80-7D7581BCF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E2540-C909-49D8-A417-FC0769C68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D19CA-0587-4D06-8749-53C0B11DA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ADF9D-EFAF-4EF5-B135-AB7BBF2F1D6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pple Varie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 Willi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pple Marketing Bo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Varieties Produc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ProseAntiq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ProseAntique"/>
                <a:ea typeface="Times New Roman"/>
              </a:rPr>
              <a:t>BEAUTY OF K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ProseAntiq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ProseAntique"/>
                <a:ea typeface="Times New Roman"/>
              </a:rPr>
              <a:t>BLENHEIM OR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ProseAntiq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ProseAntique"/>
                <a:ea typeface="Times New Roman"/>
              </a:rPr>
              <a:t>CLAYGATE PEARM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ProseAntiq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ProseAntique"/>
                <a:ea typeface="Times New Roman"/>
              </a:rPr>
              <a:t>D'ARCY SP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ProseAntiq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ProseAntique"/>
                <a:ea typeface="Times New Roman"/>
              </a:rPr>
              <a:t>LAXTON'S FORTU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ProseAntiq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ProseAntique"/>
                <a:ea typeface="Times New Roman"/>
              </a:rPr>
              <a:t>RIBSTON'S PIPP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5T21:30:34Z</dcterms:created>
  <dc:creator>European Computer Driving Licence Foundation Ltd.</dc:creator>
  <dc:description/>
  <dc:language>en-US</dc:language>
  <cp:lastModifiedBy>Greg</cp:lastModifiedBy>
  <dcterms:modified xsi:type="dcterms:W3CDTF">2010-04-04T16:41:10Z</dcterms:modified>
  <cp:revision>3</cp:revision>
  <dc:subject/>
  <dc:title>Apple Varieties</dc:title>
</cp:coreProperties>
</file>