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D788-D4FF-4575-9ABB-A3009111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496-66B7-403C-A437-D28E11F9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7E00-4B96-4300-AF91-3CD54C7F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605-C0FE-47CF-809B-C070C02B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45BB-C546-4A29-B82E-57B5E93C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0B2-A3B6-4FF6-B90F-36EB6DA9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992B-5272-4D61-9E46-A29B60EA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CAE6-5B07-4CD8-AB2C-E9143E00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758C-AD85-457B-A3FC-B5CFD8CE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77D-75C7-4629-8456-0D5B0A18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DDD4-157F-40CB-8E31-C04869DB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2A1F-A348-43EF-A8BC-C5875DE6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7A08-D54C-4E3E-B94B-5697B3B8EA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pples of our Is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pple Marketing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SmartArt Placeholder 3" descr=""/>
          <p:cNvPicPr/>
          <p:nvPr/>
        </p:nvPicPr>
        <p:blipFill>
          <a:blip r:embed="rId1"/>
          <a:stretch/>
        </p:blipFill>
        <p:spPr>
          <a:xfrm>
            <a:off x="438120" y="1596960"/>
            <a:ext cx="82677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e Var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71760" y="2142720"/>
            <a:ext cx="71388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ens Everl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ington Pip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auty of K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enheim 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gate Pear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'arcy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xton's Fort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een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Known as Granny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riginated in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Green and grey apple image"/>
          <p:cNvPicPr/>
          <p:nvPr/>
        </p:nvPicPr>
        <p:blipFill>
          <a:blip r:embed="rId1"/>
          <a:stretch/>
        </p:blipFill>
        <p:spPr>
          <a:xfrm>
            <a:off x="5724360" y="2492280"/>
            <a:ext cx="19130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al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 apple a 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s the doctor a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val 11"/>
          <p:cNvSpPr/>
          <p:nvPr/>
        </p:nvSpPr>
        <p:spPr>
          <a:xfrm>
            <a:off x="5580000" y="5229360"/>
            <a:ext cx="1932120" cy="107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sing Green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2142720"/>
            <a:ext cx="81468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2"/>
          <p:cNvSpPr/>
          <p:nvPr/>
        </p:nvSpPr>
        <p:spPr>
          <a:xfrm>
            <a:off x="7104240" y="5373720"/>
            <a:ext cx="1931760" cy="107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9"/>
          <p:cNvSpPr/>
          <p:nvPr/>
        </p:nvSpPr>
        <p:spPr>
          <a:xfrm>
            <a:off x="4284720" y="5373720"/>
            <a:ext cx="193176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n Buying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reee from blem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broken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5460840" y="1916280"/>
            <a:ext cx="3024360" cy="3889080"/>
          </a:xfrm>
          <a:custGeom>
            <a:avLst/>
            <a:gdLst>
              <a:gd name="textAreaLeft" fmla="*/ 405000 w 3024360"/>
              <a:gd name="textAreaRight" fmla="*/ 2619360 w 3024360"/>
              <a:gd name="textAreaTop" fmla="*/ 680400 h 3889080"/>
              <a:gd name="textAreaBottom" fmla="*/ 2819520 h 38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Check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bu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oking with App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pple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reduce cholesterol and aids di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are virtually fat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are rich in Potas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have 8-14% natural frut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21:35:22Z</dcterms:created>
  <dc:creator>European Computer Driving Licence Foundation Ltd.</dc:creator>
  <dc:description/>
  <dc:language>en-US</dc:language>
  <cp:lastModifiedBy>Gregoris Gregoriou</cp:lastModifiedBy>
  <dcterms:modified xsi:type="dcterms:W3CDTF">2011-01-21T17:05:52Z</dcterms:modified>
  <cp:revision>51</cp:revision>
  <dc:subject/>
  <dc:title>THE APPLES OF OUR ISLES</dc:title>
</cp:coreProperties>
</file>